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7.wmf" ContentType="image/x-wmf"/>
  <Override PartName="/ppt/media/image4.wmf" ContentType="image/x-wmf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38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34.png" ContentType="image/png"/>
  <Override PartName="/ppt/media/image39.png" ContentType="image/png"/>
  <Override PartName="/ppt/media/image51.png" ContentType="image/png"/>
  <Override PartName="/ppt/media/image4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2.png" ContentType="image/png"/>
  <Override PartName="/ppt/media/image13.png" ContentType="image/png"/>
  <Override PartName="/ppt/media/image53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360-7C5C-41FB-AD77-DF140FFF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D44-2437-4364-8AD7-2CEDA0D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32B-F799-402D-84EA-361C0AD4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9E1-52C7-4E45-914A-9B4A5933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F71-079E-4E44-8773-DC0ABF1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712-E0A7-4AD7-92B2-0CED0329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AC3-0349-46BE-A2DE-3A465A40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ED2-79DA-4E5F-9FB6-61D16A8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B5C-6B41-4DB6-BE42-8E22EF5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C99-B070-4B28-96AB-68AE67C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846-CACC-4B1C-8823-1C3381D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3C8-0384-447A-8845-D811FA5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B2AF-EC57-48AF-B4EC-73A78D995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8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71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73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91" name="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80960" y="-57240"/>
          <a:ext cx="330372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372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6" name="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05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7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640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344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62040" y="1219320"/>
          <a:ext cx="289584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562040" y="1219320"/>
                    <a:ext cx="2895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89712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764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943600" y="2438280"/>
          <a:ext cx="2208240" cy="20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438280"/>
                    <a:ext cx="22082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486400" y="4724280"/>
          <a:ext cx="34956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724280"/>
                    <a:ext cx="34956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1512720"/>
          <a:ext cx="769608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12720"/>
                    <a:ext cx="769608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260640" y="270000"/>
            <a:ext cx="89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node is a point of connection of two or more circuit e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t may be stretched out or compressed for visual purpos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is still a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43200" y="1319040"/>
            <a:ext cx="6080040" cy="3911760"/>
            <a:chOff x="1843200" y="1319040"/>
            <a:chExt cx="6080040" cy="3911760"/>
          </a:xfrm>
        </p:grpSpPr>
        <p:sp>
          <p:nvSpPr>
            <p:cNvPr id="88" name=""/>
            <p:cNvSpPr/>
            <p:nvPr/>
          </p:nvSpPr>
          <p:spPr>
            <a:xfrm>
              <a:off x="1949400" y="1319040"/>
              <a:ext cx="5973840" cy="1049400"/>
            </a:xfrm>
            <a:custGeom>
              <a:avLst/>
              <a:gdLst/>
              <a:ahLst/>
              <a:rect l="l" t="t" r="r" b="b"/>
              <a:pathLst>
                <a:path w="3763" h="661">
                  <a:moveTo>
                    <a:pt x="538" y="368"/>
                  </a:moveTo>
                  <a:cubicBezTo>
                    <a:pt x="535" y="315"/>
                    <a:pt x="536" y="261"/>
                    <a:pt x="528" y="208"/>
                  </a:cubicBezTo>
                  <a:cubicBezTo>
                    <a:pt x="526" y="194"/>
                    <a:pt x="515" y="183"/>
                    <a:pt x="509" y="170"/>
                  </a:cubicBezTo>
                  <a:cubicBezTo>
                    <a:pt x="441" y="10"/>
                    <a:pt x="363" y="11"/>
                    <a:pt x="198" y="0"/>
                  </a:cubicBezTo>
                  <a:cubicBezTo>
                    <a:pt x="173" y="3"/>
                    <a:pt x="146" y="0"/>
                    <a:pt x="122" y="9"/>
                  </a:cubicBezTo>
                  <a:cubicBezTo>
                    <a:pt x="101" y="17"/>
                    <a:pt x="85" y="34"/>
                    <a:pt x="66" y="47"/>
                  </a:cubicBezTo>
                  <a:cubicBezTo>
                    <a:pt x="56" y="53"/>
                    <a:pt x="37" y="66"/>
                    <a:pt x="37" y="66"/>
                  </a:cubicBezTo>
                  <a:cubicBezTo>
                    <a:pt x="13" y="102"/>
                    <a:pt x="8" y="127"/>
                    <a:pt x="0" y="170"/>
                  </a:cubicBezTo>
                  <a:cubicBezTo>
                    <a:pt x="3" y="220"/>
                    <a:pt x="4" y="271"/>
                    <a:pt x="9" y="321"/>
                  </a:cubicBezTo>
                  <a:cubicBezTo>
                    <a:pt x="15" y="392"/>
                    <a:pt x="12" y="577"/>
                    <a:pt x="103" y="623"/>
                  </a:cubicBezTo>
                  <a:cubicBezTo>
                    <a:pt x="146" y="645"/>
                    <a:pt x="223" y="652"/>
                    <a:pt x="273" y="661"/>
                  </a:cubicBezTo>
                  <a:cubicBezTo>
                    <a:pt x="338" y="653"/>
                    <a:pt x="366" y="656"/>
                    <a:pt x="415" y="623"/>
                  </a:cubicBezTo>
                  <a:cubicBezTo>
                    <a:pt x="438" y="590"/>
                    <a:pt x="462" y="574"/>
                    <a:pt x="491" y="548"/>
                  </a:cubicBezTo>
                  <a:cubicBezTo>
                    <a:pt x="511" y="530"/>
                    <a:pt x="547" y="491"/>
                    <a:pt x="547" y="491"/>
                  </a:cubicBezTo>
                  <a:cubicBezTo>
                    <a:pt x="551" y="466"/>
                    <a:pt x="551" y="425"/>
                    <a:pt x="576" y="406"/>
                  </a:cubicBezTo>
                  <a:cubicBezTo>
                    <a:pt x="601" y="387"/>
                    <a:pt x="713" y="346"/>
                    <a:pt x="727" y="340"/>
                  </a:cubicBezTo>
                  <a:cubicBezTo>
                    <a:pt x="776" y="320"/>
                    <a:pt x="816" y="297"/>
                    <a:pt x="868" y="283"/>
                  </a:cubicBezTo>
                  <a:cubicBezTo>
                    <a:pt x="921" y="248"/>
                    <a:pt x="948" y="253"/>
                    <a:pt x="1019" y="245"/>
                  </a:cubicBezTo>
                  <a:cubicBezTo>
                    <a:pt x="1088" y="223"/>
                    <a:pt x="1158" y="217"/>
                    <a:pt x="1227" y="198"/>
                  </a:cubicBezTo>
                  <a:cubicBezTo>
                    <a:pt x="1304" y="176"/>
                    <a:pt x="1374" y="144"/>
                    <a:pt x="1454" y="132"/>
                  </a:cubicBezTo>
                  <a:cubicBezTo>
                    <a:pt x="1504" y="106"/>
                    <a:pt x="1550" y="102"/>
                    <a:pt x="1605" y="94"/>
                  </a:cubicBezTo>
                  <a:cubicBezTo>
                    <a:pt x="1723" y="56"/>
                    <a:pt x="1952" y="55"/>
                    <a:pt x="2077" y="47"/>
                  </a:cubicBezTo>
                  <a:cubicBezTo>
                    <a:pt x="2455" y="58"/>
                    <a:pt x="2832" y="89"/>
                    <a:pt x="3210" y="104"/>
                  </a:cubicBezTo>
                  <a:cubicBezTo>
                    <a:pt x="3289" y="119"/>
                    <a:pt x="3367" y="136"/>
                    <a:pt x="3446" y="151"/>
                  </a:cubicBezTo>
                  <a:cubicBezTo>
                    <a:pt x="3544" y="200"/>
                    <a:pt x="3679" y="267"/>
                    <a:pt x="3739" y="359"/>
                  </a:cubicBezTo>
                  <a:cubicBezTo>
                    <a:pt x="3763" y="435"/>
                    <a:pt x="3705" y="494"/>
                    <a:pt x="3635" y="519"/>
                  </a:cubicBezTo>
                  <a:cubicBezTo>
                    <a:pt x="3567" y="543"/>
                    <a:pt x="3498" y="584"/>
                    <a:pt x="3427" y="595"/>
                  </a:cubicBezTo>
                  <a:cubicBezTo>
                    <a:pt x="3336" y="610"/>
                    <a:pt x="3244" y="619"/>
                    <a:pt x="3153" y="633"/>
                  </a:cubicBezTo>
                  <a:cubicBezTo>
                    <a:pt x="2818" y="623"/>
                    <a:pt x="2587" y="616"/>
                    <a:pt x="2285" y="595"/>
                  </a:cubicBezTo>
                  <a:cubicBezTo>
                    <a:pt x="2201" y="577"/>
                    <a:pt x="2115" y="570"/>
                    <a:pt x="2030" y="557"/>
                  </a:cubicBezTo>
                  <a:cubicBezTo>
                    <a:pt x="1936" y="520"/>
                    <a:pt x="1842" y="493"/>
                    <a:pt x="1746" y="463"/>
                  </a:cubicBezTo>
                  <a:cubicBezTo>
                    <a:pt x="1727" y="450"/>
                    <a:pt x="1708" y="438"/>
                    <a:pt x="1690" y="425"/>
                  </a:cubicBezTo>
                  <a:cubicBezTo>
                    <a:pt x="1677" y="416"/>
                    <a:pt x="1652" y="397"/>
                    <a:pt x="1652" y="397"/>
                  </a:cubicBezTo>
                  <a:cubicBezTo>
                    <a:pt x="1603" y="323"/>
                    <a:pt x="1666" y="410"/>
                    <a:pt x="1605" y="349"/>
                  </a:cubicBezTo>
                  <a:cubicBezTo>
                    <a:pt x="1588" y="332"/>
                    <a:pt x="1575" y="310"/>
                    <a:pt x="1558" y="293"/>
                  </a:cubicBezTo>
                  <a:cubicBezTo>
                    <a:pt x="1548" y="262"/>
                    <a:pt x="1520" y="206"/>
                    <a:pt x="1520" y="17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43200" y="4357800"/>
              <a:ext cx="6048360" cy="873000"/>
            </a:xfrm>
            <a:custGeom>
              <a:avLst/>
              <a:gdLst/>
              <a:ahLst/>
              <a:rect l="l" t="t" r="r" b="b"/>
              <a:pathLst>
                <a:path w="3810" h="550">
                  <a:moveTo>
                    <a:pt x="605" y="343"/>
                  </a:moveTo>
                  <a:cubicBezTo>
                    <a:pt x="602" y="299"/>
                    <a:pt x="602" y="254"/>
                    <a:pt x="595" y="211"/>
                  </a:cubicBezTo>
                  <a:cubicBezTo>
                    <a:pt x="587" y="165"/>
                    <a:pt x="529" y="122"/>
                    <a:pt x="501" y="88"/>
                  </a:cubicBezTo>
                  <a:cubicBezTo>
                    <a:pt x="494" y="79"/>
                    <a:pt x="492" y="65"/>
                    <a:pt x="482" y="59"/>
                  </a:cubicBezTo>
                  <a:cubicBezTo>
                    <a:pt x="448" y="38"/>
                    <a:pt x="407" y="35"/>
                    <a:pt x="369" y="22"/>
                  </a:cubicBezTo>
                  <a:cubicBezTo>
                    <a:pt x="359" y="19"/>
                    <a:pt x="340" y="12"/>
                    <a:pt x="340" y="12"/>
                  </a:cubicBezTo>
                  <a:cubicBezTo>
                    <a:pt x="223" y="18"/>
                    <a:pt x="140" y="0"/>
                    <a:pt x="48" y="59"/>
                  </a:cubicBezTo>
                  <a:cubicBezTo>
                    <a:pt x="29" y="87"/>
                    <a:pt x="19" y="116"/>
                    <a:pt x="0" y="144"/>
                  </a:cubicBezTo>
                  <a:cubicBezTo>
                    <a:pt x="9" y="214"/>
                    <a:pt x="14" y="291"/>
                    <a:pt x="76" y="333"/>
                  </a:cubicBezTo>
                  <a:cubicBezTo>
                    <a:pt x="122" y="403"/>
                    <a:pt x="169" y="431"/>
                    <a:pt x="246" y="456"/>
                  </a:cubicBezTo>
                  <a:cubicBezTo>
                    <a:pt x="312" y="501"/>
                    <a:pt x="396" y="491"/>
                    <a:pt x="473" y="503"/>
                  </a:cubicBezTo>
                  <a:cubicBezTo>
                    <a:pt x="485" y="502"/>
                    <a:pt x="599" y="489"/>
                    <a:pt x="614" y="484"/>
                  </a:cubicBezTo>
                  <a:cubicBezTo>
                    <a:pt x="625" y="481"/>
                    <a:pt x="632" y="470"/>
                    <a:pt x="643" y="465"/>
                  </a:cubicBezTo>
                  <a:cubicBezTo>
                    <a:pt x="661" y="457"/>
                    <a:pt x="699" y="447"/>
                    <a:pt x="699" y="447"/>
                  </a:cubicBezTo>
                  <a:cubicBezTo>
                    <a:pt x="709" y="441"/>
                    <a:pt x="718" y="433"/>
                    <a:pt x="728" y="428"/>
                  </a:cubicBezTo>
                  <a:cubicBezTo>
                    <a:pt x="737" y="424"/>
                    <a:pt x="748" y="423"/>
                    <a:pt x="756" y="418"/>
                  </a:cubicBezTo>
                  <a:cubicBezTo>
                    <a:pt x="801" y="391"/>
                    <a:pt x="841" y="357"/>
                    <a:pt x="888" y="333"/>
                  </a:cubicBezTo>
                  <a:cubicBezTo>
                    <a:pt x="971" y="291"/>
                    <a:pt x="847" y="369"/>
                    <a:pt x="954" y="305"/>
                  </a:cubicBezTo>
                  <a:cubicBezTo>
                    <a:pt x="1014" y="269"/>
                    <a:pt x="1067" y="241"/>
                    <a:pt x="1134" y="220"/>
                  </a:cubicBezTo>
                  <a:cubicBezTo>
                    <a:pt x="1178" y="190"/>
                    <a:pt x="1229" y="196"/>
                    <a:pt x="1275" y="173"/>
                  </a:cubicBezTo>
                  <a:cubicBezTo>
                    <a:pt x="1362" y="129"/>
                    <a:pt x="1287" y="155"/>
                    <a:pt x="1351" y="135"/>
                  </a:cubicBezTo>
                  <a:cubicBezTo>
                    <a:pt x="1384" y="112"/>
                    <a:pt x="1419" y="103"/>
                    <a:pt x="1455" y="88"/>
                  </a:cubicBezTo>
                  <a:cubicBezTo>
                    <a:pt x="1522" y="60"/>
                    <a:pt x="1463" y="80"/>
                    <a:pt x="1530" y="41"/>
                  </a:cubicBezTo>
                  <a:cubicBezTo>
                    <a:pt x="1558" y="25"/>
                    <a:pt x="1595" y="18"/>
                    <a:pt x="1625" y="3"/>
                  </a:cubicBezTo>
                  <a:cubicBezTo>
                    <a:pt x="1903" y="16"/>
                    <a:pt x="2176" y="59"/>
                    <a:pt x="2456" y="69"/>
                  </a:cubicBezTo>
                  <a:cubicBezTo>
                    <a:pt x="2657" y="96"/>
                    <a:pt x="2846" y="110"/>
                    <a:pt x="3050" y="116"/>
                  </a:cubicBezTo>
                  <a:cubicBezTo>
                    <a:pt x="3069" y="119"/>
                    <a:pt x="3088" y="124"/>
                    <a:pt x="3107" y="126"/>
                  </a:cubicBezTo>
                  <a:cubicBezTo>
                    <a:pt x="3145" y="130"/>
                    <a:pt x="3183" y="130"/>
                    <a:pt x="3220" y="135"/>
                  </a:cubicBezTo>
                  <a:cubicBezTo>
                    <a:pt x="3250" y="139"/>
                    <a:pt x="3277" y="153"/>
                    <a:pt x="3305" y="163"/>
                  </a:cubicBezTo>
                  <a:cubicBezTo>
                    <a:pt x="3365" y="183"/>
                    <a:pt x="3432" y="198"/>
                    <a:pt x="3494" y="211"/>
                  </a:cubicBezTo>
                  <a:cubicBezTo>
                    <a:pt x="3538" y="205"/>
                    <a:pt x="3568" y="204"/>
                    <a:pt x="3608" y="192"/>
                  </a:cubicBezTo>
                  <a:cubicBezTo>
                    <a:pt x="3627" y="186"/>
                    <a:pt x="3664" y="173"/>
                    <a:pt x="3664" y="173"/>
                  </a:cubicBezTo>
                  <a:cubicBezTo>
                    <a:pt x="3680" y="176"/>
                    <a:pt x="3696" y="175"/>
                    <a:pt x="3711" y="182"/>
                  </a:cubicBezTo>
                  <a:cubicBezTo>
                    <a:pt x="3732" y="191"/>
                    <a:pt x="3768" y="220"/>
                    <a:pt x="3768" y="220"/>
                  </a:cubicBezTo>
                  <a:cubicBezTo>
                    <a:pt x="3789" y="252"/>
                    <a:pt x="3796" y="277"/>
                    <a:pt x="3806" y="314"/>
                  </a:cubicBezTo>
                  <a:cubicBezTo>
                    <a:pt x="3803" y="333"/>
                    <a:pt x="3810" y="358"/>
                    <a:pt x="3796" y="371"/>
                  </a:cubicBezTo>
                  <a:cubicBezTo>
                    <a:pt x="3779" y="386"/>
                    <a:pt x="3752" y="377"/>
                    <a:pt x="3730" y="381"/>
                  </a:cubicBezTo>
                  <a:cubicBezTo>
                    <a:pt x="3686" y="390"/>
                    <a:pt x="3654" y="411"/>
                    <a:pt x="3608" y="418"/>
                  </a:cubicBezTo>
                  <a:cubicBezTo>
                    <a:pt x="3557" y="435"/>
                    <a:pt x="3519" y="448"/>
                    <a:pt x="3466" y="456"/>
                  </a:cubicBezTo>
                  <a:cubicBezTo>
                    <a:pt x="3346" y="504"/>
                    <a:pt x="3227" y="514"/>
                    <a:pt x="3098" y="522"/>
                  </a:cubicBezTo>
                  <a:cubicBezTo>
                    <a:pt x="2985" y="504"/>
                    <a:pt x="2967" y="505"/>
                    <a:pt x="2824" y="513"/>
                  </a:cubicBezTo>
                  <a:cubicBezTo>
                    <a:pt x="2733" y="530"/>
                    <a:pt x="2642" y="537"/>
                    <a:pt x="2550" y="550"/>
                  </a:cubicBezTo>
                  <a:cubicBezTo>
                    <a:pt x="2443" y="544"/>
                    <a:pt x="2342" y="539"/>
                    <a:pt x="2238" y="513"/>
                  </a:cubicBezTo>
                  <a:cubicBezTo>
                    <a:pt x="2157" y="493"/>
                    <a:pt x="2082" y="453"/>
                    <a:pt x="2002" y="428"/>
                  </a:cubicBezTo>
                  <a:cubicBezTo>
                    <a:pt x="1907" y="364"/>
                    <a:pt x="2050" y="456"/>
                    <a:pt x="1936" y="399"/>
                  </a:cubicBezTo>
                  <a:cubicBezTo>
                    <a:pt x="1860" y="361"/>
                    <a:pt x="1797" y="298"/>
                    <a:pt x="1738" y="239"/>
                  </a:cubicBezTo>
                  <a:cubicBezTo>
                    <a:pt x="1713" y="214"/>
                    <a:pt x="1695" y="181"/>
                    <a:pt x="1672" y="154"/>
                  </a:cubicBezTo>
                  <a:cubicBezTo>
                    <a:pt x="1665" y="145"/>
                    <a:pt x="1658" y="136"/>
                    <a:pt x="1653" y="126"/>
                  </a:cubicBezTo>
                  <a:cubicBezTo>
                    <a:pt x="1648" y="117"/>
                    <a:pt x="1643" y="97"/>
                    <a:pt x="1643" y="9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3267000" cy="29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4508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590920"/>
            <a:ext cx="184320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6060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63680" y="4876920"/>
                <a:ext cx="331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920960" y="4876920"/>
            <a:ext cx="3733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508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7092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45000" y="396252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45000" y="396252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4-07-24T14:23:37Z</dcterms:modified>
  <cp:revision>22</cp:revision>
  <dc:subject/>
  <dc:title>No Slide Title</dc:title>
</cp:coreProperties>
</file>